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ED59-57FA-484E-9D48-79F1DF854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8AF7-5780-459A-A193-393912C93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7D9-EDE7-4617-A0F9-6DE425EB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939-B2CC-43B0-A17C-2A33F5DE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B2C-AAD9-44BF-9195-4DCD78AF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56F-2A9D-4B38-B1B8-FF591DC5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F33-2AFB-42E7-B99F-0C9B9617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DBB-BE05-40C4-9D55-1F3273A2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BF3-7DF0-4888-9C7F-95B2C750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887-8FE8-4C19-8A01-9790303C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F92-8C4C-48B3-A4E1-24D165F8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3E7-270F-4262-A1DB-835169CD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575-E47B-435F-8740-79539699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B31-E100-4A86-8F3B-64A7E11F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AC85-676D-4672-90B6-C40DBC7A8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Rami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Ramire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abriela Ramir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abriela Ramirez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abriela Ramir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i nombre es Gabriela. Yo vivo en Nueva York. Tengo catorce años. Yo tengo seis hermanos. Yo soy calmada y am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amiga                                                          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amiga. Como est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har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, bien gracias, quieres comprar comida conmig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noches,                                                                          Mer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5:45Z</dcterms:modified>
  <cp:revision>105</cp:revision>
  <dc:subject/>
  <dc:title>Profile</dc:title>
</cp:coreProperties>
</file>